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C53-47AF-4652-B380-193EB1111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185-10DF-4D89-857A-75C8DA4BF7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BEA-5FC5-4CD8-8A6C-D8025CA2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0BA-6835-4CC0-9C10-A16D7BE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F33-7B74-4AD6-B199-DE7412D5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BBD-A5AE-4B3B-90AA-2DFB7380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CE6-9DBC-4CDE-AE0D-0D5D854C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AA9-21D9-425C-B587-502B288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FFC-0993-4D04-83AC-4FF6E0B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586-5D54-4F79-9A5B-B6007A0A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996-B30A-4361-A794-A945E92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9CE-8F24-4594-9B3A-058F1C3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F8-E94E-4B35-B72D-3003871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17D-5769-45AF-8555-5128C7A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8B8-E9F6-44A8-B50F-C64657A3A6B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22480"/>
            <a:ext cx="88567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1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ЛОВАЯ ИГРА ДЛЯ ПЕДАГОГОВ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« ЧТО Я ЗНАЮ О СТАНДАРТЕ ДОШКОЛЬНОГО ОБРАЗОВАНИЯ 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66840" y="4149360"/>
            <a:ext cx="4810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МБДОУ Детский сад №174 «ЯГОД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Февраль 2014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-3240" y="6480"/>
            <a:ext cx="91155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становите соответств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КАКОЙ  ОБРАЗОВАТЕЛЬНОЙ ОБЛА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ООТВЕТСТВУЕТ ДАННОЕ  СОДЕРЖ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-109440" y="1547640"/>
            <a:ext cx="9094680" cy="4335480"/>
          </a:xfrm>
          <a:prstGeom prst="rect">
            <a:avLst/>
          </a:prstGeom>
          <a:ln w="0">
            <a:noFill/>
          </a:ln>
        </p:spPr>
      </p:pic>
      <p:pic>
        <p:nvPicPr>
          <p:cNvPr id="107" name="Полилиния 5" descr=""/>
          <p:cNvPicPr/>
          <p:nvPr/>
        </p:nvPicPr>
        <p:blipFill>
          <a:blip r:embed="rId2"/>
          <a:stretch/>
        </p:blipFill>
        <p:spPr>
          <a:xfrm>
            <a:off x="-208080" y="1944720"/>
            <a:ext cx="3348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Полилиния 6" descr=""/>
          <p:cNvPicPr/>
          <p:nvPr/>
        </p:nvPicPr>
        <p:blipFill>
          <a:blip r:embed="rId3"/>
          <a:stretch/>
        </p:blipFill>
        <p:spPr>
          <a:xfrm>
            <a:off x="2865600" y="1944720"/>
            <a:ext cx="3065400" cy="1957320"/>
          </a:xfrm>
          <a:prstGeom prst="rect">
            <a:avLst/>
          </a:prstGeom>
          <a:ln w="0">
            <a:noFill/>
          </a:ln>
        </p:spPr>
      </p:pic>
      <p:pic>
        <p:nvPicPr>
          <p:cNvPr id="109" name="Полилиния 7" descr=""/>
          <p:cNvPicPr/>
          <p:nvPr/>
        </p:nvPicPr>
        <p:blipFill>
          <a:blip r:embed="rId4"/>
          <a:stretch/>
        </p:blipFill>
        <p:spPr>
          <a:xfrm>
            <a:off x="5834160" y="1944720"/>
            <a:ext cx="3071880" cy="1957320"/>
          </a:xfrm>
          <a:prstGeom prst="rect">
            <a:avLst/>
          </a:prstGeom>
          <a:ln w="0">
            <a:noFill/>
          </a:ln>
        </p:spPr>
      </p:pic>
      <p:pic>
        <p:nvPicPr>
          <p:cNvPr id="110" name="Полилиния 8" descr=""/>
          <p:cNvPicPr/>
          <p:nvPr/>
        </p:nvPicPr>
        <p:blipFill>
          <a:blip r:embed="rId5"/>
          <a:stretch/>
        </p:blipFill>
        <p:spPr>
          <a:xfrm>
            <a:off x="1328760" y="3840120"/>
            <a:ext cx="3164040" cy="1951200"/>
          </a:xfrm>
          <a:prstGeom prst="rect">
            <a:avLst/>
          </a:prstGeom>
          <a:ln w="0">
            <a:noFill/>
          </a:ln>
        </p:spPr>
      </p:pic>
      <p:pic>
        <p:nvPicPr>
          <p:cNvPr id="111" name="Полилиния 9" descr=""/>
          <p:cNvPicPr/>
          <p:nvPr/>
        </p:nvPicPr>
        <p:blipFill>
          <a:blip r:embed="rId6"/>
          <a:stretch/>
        </p:blipFill>
        <p:spPr>
          <a:xfrm>
            <a:off x="4346640" y="3840120"/>
            <a:ext cx="3071880" cy="195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ЗОВИТЕ ВИДЫ ДЕТСКОЙ ДЕЯТЕЛЬНОСТИ ПО ФГОС ДО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Схема 2" descr=""/>
          <p:cNvPicPr/>
          <p:nvPr/>
        </p:nvPicPr>
        <p:blipFill>
          <a:blip r:embed="rId1"/>
          <a:stretch/>
        </p:blipFill>
        <p:spPr>
          <a:xfrm>
            <a:off x="73080" y="901800"/>
            <a:ext cx="9090000" cy="5846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2195640" y="1628640"/>
            <a:ext cx="6840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2098800" y="2252520"/>
            <a:ext cx="6840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2157480" y="2900520"/>
            <a:ext cx="684216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050920" y="3573360"/>
            <a:ext cx="6842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2124000" y="4221000"/>
            <a:ext cx="684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2098800" y="4867200"/>
            <a:ext cx="6840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2195640" y="5516640"/>
            <a:ext cx="6840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2117880" y="6165720"/>
            <a:ext cx="6840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098800" y="981000"/>
            <a:ext cx="6840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ыберите из предложенного:</a:t>
            </a:r>
            <a:br>
              <a:rPr sz="3000"/>
            </a:b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КАКИЕ ГРУППЫ ТРЕБОВАНИЙ </a:t>
            </a:r>
            <a:br>
              <a:rPr sz="2500"/>
            </a:b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Е ВКЛЮЧАЮТ ТРЕБОВАНИЯ К УСЛОВИЯМ РЕАЛИЗАЦИИ ООП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24" name="Содержимое 2"/>
          <p:cNvGrpSpPr/>
          <p:nvPr/>
        </p:nvGrpSpPr>
        <p:grpSpPr>
          <a:xfrm>
            <a:off x="-6480" y="1620720"/>
            <a:ext cx="9156960" cy="4767480"/>
            <a:chOff x="-6480" y="1620720"/>
            <a:chExt cx="9156960" cy="4767480"/>
          </a:xfrm>
        </p:grpSpPr>
        <p:pic>
          <p:nvPicPr>
            <p:cNvPr id="12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480" y="1620720"/>
              <a:ext cx="915696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1628640"/>
              <a:ext cx="914400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психолого-педагогическим условиям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учебно-материальному обеспечению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кадровым условиям;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материально-техническим условиям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финансовым условиям;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информационно-методическому обеспечению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развивающей предметно-пространственной среде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457200">
                <a:lnSpc>
                  <a:spcPct val="150000"/>
                </a:lnSpc>
                <a:spcBef>
                  <a:spcPts val="37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бования к медико-социальному обеспечению;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Calibri Light"/>
                <a:buChar char="•"/>
                <a:tabLst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348000" y="620640"/>
            <a:ext cx="5688000" cy="626616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разовательного пространства должна обеспечивать игровую, познавательную, исследовательскую и творческую активность всех воспитанников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ения среды от образовательной ситуаци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нообразных материалов, игр, игрушек и оборудования, обеспечивающих свободный выбор детей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ь и сохранность материалов и оборудования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нообразного использования различных составляющих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еспечению надёжности и безопасности их использования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240" y="142920"/>
            <a:ext cx="91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АВИЛЬНО ЛИ УКАЗАНЫ ПРИНЦИПЫ РППС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08000" y="620640"/>
            <a:ext cx="2663640" cy="626616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4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1184400" cy="1668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5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497400" y="3968640"/>
            <a:ext cx="2514600" cy="3005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250920" y="115920"/>
            <a:ext cx="8785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 ВИДЕ ЧЕГО ПРЕДСТАВЛЕНЫ ТРЕБОВАНИЯ СТАНДАРТА К РЕЗУЛЬТАТАМ ОСВОЕНИЯ ПРОГРАМ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хема 6" descr=""/>
          <p:cNvPicPr/>
          <p:nvPr/>
        </p:nvPicPr>
        <p:blipFill>
          <a:blip r:embed="rId2"/>
          <a:stretch/>
        </p:blipFill>
        <p:spPr>
          <a:xfrm>
            <a:off x="146160" y="1427040"/>
            <a:ext cx="890100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-4680" y="949320"/>
            <a:ext cx="9144000" cy="584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ебёнок овладевает основными культурными способами деятельности, проявляет инициативу и самостоятельность в разных видах деятельности - игре, общении, познавательно-исследовательской деятельности, конструировании и др.; способен выбирать себе род занятий, участников по совместн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ребёнок обладает установкой положительного отношения к миру, к разным видам труда, другим людям и самому себе, обладает чувством собственного достоинства; активно взаимодействует со сверстниками и взрослыми, участвует в совместных играх. Способен договариваться, учитывать интересы и чувства других, сопереживать неудачам и радоваться успехам других, адекватно проявляет свои чувства, в том числе чувство веры в себя, старается разрешать конфлик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ребёнок обладает развитым воображением, которое реализуется в разных видах деятельности, и прежде всего в игре; ребёнок владеет разными формами и видами игры, различает условную и реальную ситуации, умеет подчиняться разным правилам и социальным норм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ребёнок достаточно хорошо владеет устной речью, может выражать свои мысли и желания, может использовать речь для выражения своих мыслей, чувств и желаний, построения речевого высказывания в ситуации общения, может выделять звуки в словах, у ребёнка складываются предпосылки грамот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у ребёнка развита крупная и мелкая моторика; он подвижен, вынослив, владеет основными движениями, может контролировать свои движения и управлять и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ребёнок способен к волевым усилиям, может следовать социальным нормам поведения и правилам в разных видах деятельности, во взаимоотношениях со взрослыми и сверстниками, может соблюдать правила безопасного поведения и личной гигиен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ребёнок проявляет любознательность, задаёт вопросы взрослым и сверстникам, интересуется причинно-следственными связями, пытается самостоятельно придумывать объяснения явлениям природы и поступкам людей; склонен наблюдать, экспериментировать. Обладает начальными знаниями о себе, о природном и социальном мире, в котором он живёт; знаком с произведениями детской литературы, обладает элементарными представлениями из области живой природы, естествознания, математики, истории и т.п.; ребёнок способен к принятию собственных решений, опираясь на свои знания и умения в различных видах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2320" y="-20520"/>
            <a:ext cx="912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СПОМНИТЕ ЦЕЛЕВЫЕ ОРИЕНТИР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ЭТАП ЗАВЕРШЕНИЯ ДОШКОЛЬНОГО ОБРАЗОВАН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И ОБОЗНАЧЬТЕ ИХ НЕСКОЛЬКИМИ КЛЮЧЕВЫМИ СЛОВА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139400" y="44280"/>
            <a:ext cx="68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СШИФРУЙТЕ РЯД АББРЕВИАТУ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765000"/>
          <a:ext cx="9144000" cy="597060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НА БЛИЖАЙШ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ИГИЕНИЧЕСКИЕ НАВ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Б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Е БЮДЖЕТНОЕ ДОШКОЛЬНОЕ ОБРАЗОВАТЕЛЬ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СРЕДСТВЕННО - ОБРАЗОВАТЕЛЬНАЯ ДЕЯТЕЛЬНОС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ОБРАЗОВАТЕЛЬНАЯ ПРОГР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НН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 НЕПРЕРЫВНОЙ НЕПОСРЕДСТВЕННО - ОБРАЗОВАТЕЛЬ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ЖИМНЫЕ МО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ЮЩАЯ ПРЕДМЕТНО-ПРОСТРАНСТВЕННАЯ СРЕ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АЯ ДЕЯТЕЛЬНОСТЬ СО ВЗРОСЛ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ОЯТЕЛЬНАЯ ДЕЯТЕЛЬНОСТЬ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ГОС 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ГОСУДАРСТВЕННЫЙ ОБРАЗОВАТЕЛЬНЫЙ СТАНДАРТ ДОШКОЛЬНОГО 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Ц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ЦЕЛОСТ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ЭМ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ЭЛЕМЕНТАРНЫХ МАТЕМАТИЧЕСКИХ ПРЕДСТ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</a:tbl>
          </a:graphicData>
        </a:graphic>
      </p:graphicFrame>
      <p:sp>
        <p:nvSpPr>
          <p:cNvPr id="52" name="Стрелка влево 6"/>
          <p:cNvSpPr/>
          <p:nvPr/>
        </p:nvSpPr>
        <p:spPr>
          <a:xfrm>
            <a:off x="1619280" y="777960"/>
            <a:ext cx="7524720" cy="358560"/>
          </a:xfrm>
          <a:prstGeom prst="leftArrow">
            <a:avLst>
              <a:gd name="adj1" fmla="val 77833"/>
              <a:gd name="adj2" fmla="val 163613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трелка влево 7"/>
          <p:cNvSpPr/>
          <p:nvPr/>
        </p:nvSpPr>
        <p:spPr>
          <a:xfrm>
            <a:off x="1609560" y="1170000"/>
            <a:ext cx="7525080" cy="360360"/>
          </a:xfrm>
          <a:prstGeom prst="leftArrow">
            <a:avLst>
              <a:gd name="adj1" fmla="val 77833"/>
              <a:gd name="adj2" fmla="val 163577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трелка влево 8"/>
          <p:cNvSpPr/>
          <p:nvPr/>
        </p:nvSpPr>
        <p:spPr>
          <a:xfrm>
            <a:off x="1619280" y="229248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лево 9"/>
          <p:cNvSpPr/>
          <p:nvPr/>
        </p:nvSpPr>
        <p:spPr>
          <a:xfrm>
            <a:off x="1609560" y="1557360"/>
            <a:ext cx="7525080" cy="360360"/>
          </a:xfrm>
          <a:prstGeom prst="leftArrow">
            <a:avLst>
              <a:gd name="adj1" fmla="val 77833"/>
              <a:gd name="adj2" fmla="val 163577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лево 10"/>
          <p:cNvSpPr/>
          <p:nvPr/>
        </p:nvSpPr>
        <p:spPr>
          <a:xfrm>
            <a:off x="1609560" y="3090960"/>
            <a:ext cx="7525080" cy="360360"/>
          </a:xfrm>
          <a:prstGeom prst="leftArrow">
            <a:avLst>
              <a:gd name="adj1" fmla="val 77833"/>
              <a:gd name="adj2" fmla="val 163577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трелка влево 11"/>
          <p:cNvSpPr/>
          <p:nvPr/>
        </p:nvSpPr>
        <p:spPr>
          <a:xfrm>
            <a:off x="1619280" y="386064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трелка влево 12"/>
          <p:cNvSpPr/>
          <p:nvPr/>
        </p:nvSpPr>
        <p:spPr>
          <a:xfrm>
            <a:off x="1619280" y="461628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лево 13"/>
          <p:cNvSpPr/>
          <p:nvPr/>
        </p:nvSpPr>
        <p:spPr>
          <a:xfrm>
            <a:off x="1619280" y="5373720"/>
            <a:ext cx="7524720" cy="576360"/>
          </a:xfrm>
          <a:prstGeom prst="leftArrow">
            <a:avLst>
              <a:gd name="adj1" fmla="val 77833"/>
              <a:gd name="adj2" fmla="val 9828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лево 14"/>
          <p:cNvSpPr/>
          <p:nvPr/>
        </p:nvSpPr>
        <p:spPr>
          <a:xfrm>
            <a:off x="1619280" y="638172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лево 16"/>
          <p:cNvSpPr/>
          <p:nvPr/>
        </p:nvSpPr>
        <p:spPr>
          <a:xfrm>
            <a:off x="1623960" y="1920960"/>
            <a:ext cx="7523280" cy="360360"/>
          </a:xfrm>
          <a:prstGeom prst="leftArrow">
            <a:avLst>
              <a:gd name="adj1" fmla="val 77833"/>
              <a:gd name="adj2" fmla="val 163537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 влево 17"/>
          <p:cNvSpPr/>
          <p:nvPr/>
        </p:nvSpPr>
        <p:spPr>
          <a:xfrm>
            <a:off x="1619280" y="270828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лево 18"/>
          <p:cNvSpPr/>
          <p:nvPr/>
        </p:nvSpPr>
        <p:spPr>
          <a:xfrm>
            <a:off x="1609560" y="3479760"/>
            <a:ext cx="7525080" cy="360360"/>
          </a:xfrm>
          <a:prstGeom prst="leftArrow">
            <a:avLst>
              <a:gd name="adj1" fmla="val 77833"/>
              <a:gd name="adj2" fmla="val 163577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лево 19"/>
          <p:cNvSpPr/>
          <p:nvPr/>
        </p:nvSpPr>
        <p:spPr>
          <a:xfrm>
            <a:off x="1619280" y="422100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влево 20"/>
          <p:cNvSpPr/>
          <p:nvPr/>
        </p:nvSpPr>
        <p:spPr>
          <a:xfrm>
            <a:off x="1619280" y="501336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трелка влево 21"/>
          <p:cNvSpPr/>
          <p:nvPr/>
        </p:nvSpPr>
        <p:spPr>
          <a:xfrm>
            <a:off x="1619280" y="5964120"/>
            <a:ext cx="7524720" cy="360360"/>
          </a:xfrm>
          <a:prstGeom prst="leftArrow">
            <a:avLst>
              <a:gd name="adj1" fmla="val 77833"/>
              <a:gd name="adj2" fmla="val 163569"/>
            </a:avLst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0640" y="188640"/>
            <a:ext cx="6822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КОЛЬКО РАЗДЕЛОВ В ФГОС ДО?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Группа 2" descr=""/>
          <p:cNvPicPr/>
          <p:nvPr/>
        </p:nvPicPr>
        <p:blipFill>
          <a:blip r:embed="rId1"/>
          <a:stretch/>
        </p:blipFill>
        <p:spPr>
          <a:xfrm>
            <a:off x="317520" y="1743120"/>
            <a:ext cx="76629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920" y="115920"/>
            <a:ext cx="20001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ЗДЕЛЫ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Полилиния 8">
            <a:hlinkClick r:id="" action="ppaction://hlinkshowjump?jump=nextslide"/>
          </p:cNvPr>
          <p:cNvSpPr/>
          <p:nvPr/>
        </p:nvSpPr>
        <p:spPr>
          <a:xfrm>
            <a:off x="561960" y="1054080"/>
            <a:ext cx="3819600" cy="2292480"/>
          </a:xfrm>
          <a:prstGeom prst="pie">
            <a:avLst/>
          </a:prstGeom>
          <a:solidFill>
            <a:srgbClr val="ffffff"/>
          </a:solidFill>
          <a:ln w="19080">
            <a:solidFill>
              <a:srgbClr val="659c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607680" tIns="466200" bIns="16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. Общие по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9"/>
          <p:cNvSpPr/>
          <p:nvPr/>
        </p:nvSpPr>
        <p:spPr>
          <a:xfrm>
            <a:off x="4762440" y="1054080"/>
            <a:ext cx="3819600" cy="2292480"/>
          </a:xfrm>
          <a:prstGeom prst="pie">
            <a:avLst/>
          </a:prstGeom>
          <a:solidFill>
            <a:srgbClr val="ffffff"/>
          </a:solidFill>
          <a:ln w="19080">
            <a:solidFill>
              <a:srgbClr val="659c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607680" tIns="466200" bIns="16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. Требования к структуре образовательной программы дошкольного образования и ее объ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илиния 10"/>
          <p:cNvSpPr/>
          <p:nvPr/>
        </p:nvSpPr>
        <p:spPr>
          <a:xfrm>
            <a:off x="561960" y="3727440"/>
            <a:ext cx="3819600" cy="2292480"/>
          </a:xfrm>
          <a:prstGeom prst="pie">
            <a:avLst/>
          </a:prstGeom>
          <a:solidFill>
            <a:srgbClr val="ffffff"/>
          </a:solidFill>
          <a:ln w="19080">
            <a:solidFill>
              <a:srgbClr val="659c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607680" tIns="466200" bIns="16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I. Требования к условиям реализации основной образовательной программы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лилиния 11"/>
          <p:cNvSpPr/>
          <p:nvPr/>
        </p:nvSpPr>
        <p:spPr>
          <a:xfrm>
            <a:off x="4762440" y="3727440"/>
            <a:ext cx="3819600" cy="2292480"/>
          </a:xfrm>
          <a:prstGeom prst="pie">
            <a:avLst/>
          </a:prstGeom>
          <a:solidFill>
            <a:srgbClr val="ffffff"/>
          </a:solidFill>
          <a:ln w="19080">
            <a:solidFill>
              <a:srgbClr val="659c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607680" tIns="466200" bIns="1630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V. Требования к результатам освоения основной образовательной программы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40" y="-27000"/>
            <a:ext cx="91087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 ОСНОВЕ КАКИХ НОРМАТИВНЫХ ДОКУМЕНТОВ РАЗРАБОТАН СТАНДАРТ?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Прямоугольная выноска 2"/>
          <p:cNvSpPr/>
          <p:nvPr/>
        </p:nvSpPr>
        <p:spPr>
          <a:xfrm>
            <a:off x="0" y="1052640"/>
            <a:ext cx="4140360" cy="1296720"/>
          </a:xfrm>
          <a:prstGeom prst="wedgeRectCallout">
            <a:avLst>
              <a:gd name="adj1" fmla="val -27370"/>
              <a:gd name="adj2" fmla="val 74236"/>
            </a:avLst>
          </a:prstGeom>
          <a:solidFill>
            <a:srgbClr val="42d30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б образовании в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ая выноска 4"/>
          <p:cNvSpPr/>
          <p:nvPr/>
        </p:nvSpPr>
        <p:spPr>
          <a:xfrm>
            <a:off x="4356000" y="1557360"/>
            <a:ext cx="4680000" cy="3456000"/>
          </a:xfrm>
          <a:prstGeom prst="wedgeRectCallout">
            <a:avLst>
              <a:gd name="adj1" fmla="val -7879"/>
              <a:gd name="adj2" fmla="val 63115"/>
            </a:avLst>
          </a:prstGeom>
          <a:solidFill>
            <a:srgbClr val="42d30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"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«Об утверждении федеральных государственных требований к условиям реализации основной общеобразовательной программы дошкольного образования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ая выноска 5"/>
          <p:cNvSpPr/>
          <p:nvPr/>
        </p:nvSpPr>
        <p:spPr>
          <a:xfrm>
            <a:off x="17640" y="3429000"/>
            <a:ext cx="4122720" cy="2232000"/>
          </a:xfrm>
          <a:prstGeom prst="wedgeRectCallout">
            <a:avLst>
              <a:gd name="adj1" fmla="val -29689"/>
              <a:gd name="adj2" fmla="val 63476"/>
            </a:avLst>
          </a:prstGeom>
          <a:solidFill>
            <a:srgbClr val="42d30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и ООН о правах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б образовании в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е положение о дошкольном 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1.3049-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вал 7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" y="2371680"/>
            <a:ext cx="1017720" cy="1011240"/>
          </a:xfrm>
          <a:prstGeom prst="rect">
            <a:avLst/>
          </a:prstGeom>
          <a:ln w="0">
            <a:noFill/>
          </a:ln>
        </p:spPr>
      </p:pic>
      <p:pic>
        <p:nvPicPr>
          <p:cNvPr id="79" name="Овал 8" descr=""/>
          <p:cNvPicPr/>
          <p:nvPr/>
        </p:nvPicPr>
        <p:blipFill>
          <a:blip r:embed="rId3"/>
          <a:stretch/>
        </p:blipFill>
        <p:spPr>
          <a:xfrm>
            <a:off x="390600" y="5778360"/>
            <a:ext cx="101736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Овал 9" descr=""/>
          <p:cNvPicPr/>
          <p:nvPr/>
        </p:nvPicPr>
        <p:blipFill>
          <a:blip r:embed="rId4"/>
          <a:stretch/>
        </p:blipFill>
        <p:spPr>
          <a:xfrm>
            <a:off x="5864400" y="5237280"/>
            <a:ext cx="1017360" cy="100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 ДОСТИЖЕНИЕ КАКИХ ЦЕЛЕЙ </a:t>
            </a:r>
            <a:br>
              <a:rPr sz="2200"/>
            </a:b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Е НАПРАВЛЕН СТАНДАРТ?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237960" y="895320"/>
            <a:ext cx="8595000" cy="57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0" y="324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ыберите правильные отве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ТАНДАРТ ЯВЛЯЕТСЯ ОСНОВОЙ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57240" y="5756400"/>
            <a:ext cx="8999280" cy="91692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Формирования содержания   профессионального образования и дополнительного профессионального образования  педагогических работников, а также проведения их аттес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6360" y="1042920"/>
            <a:ext cx="8999640" cy="36828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ки основной образовательной программы  ДО (Программ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17640" y="1557360"/>
            <a:ext cx="7236720" cy="36828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азработки вариативных примерных образовательных программ 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920" y="2060640"/>
            <a:ext cx="8965080" cy="64260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отки нормативов финансового обеспечения реализации Программ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рмативных затрат на оказание государственной (муниципальной) услуги в сфере 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950920" y="2781360"/>
            <a:ext cx="3211920" cy="36828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ки локальных ак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44600" y="3284640"/>
            <a:ext cx="8254800" cy="64260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ективной оценки соответствия образовательной деятельности Организ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м Стандар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77040" y="4005360"/>
            <a:ext cx="8989560" cy="91692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азания помощи родителям в воспитании детей, охране и укреплении их физиче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сихического здоровья, в развитии индивидуальных способностей и необходим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и нарушений их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7240" y="5013360"/>
            <a:ext cx="8999280" cy="642600"/>
          </a:xfrm>
          <a:prstGeom prst="rect">
            <a:avLst/>
          </a:prstGeom>
          <a:solidFill>
            <a:srgbClr val="fff2cc"/>
          </a:solidFill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рмирования социокультурной среды, соответствующей возрастным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 особенностям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"/>
          <p:cNvPicPr/>
          <p:nvPr/>
        </p:nvPicPr>
        <p:blipFill>
          <a:blip r:embed="rId1"/>
          <a:stretch/>
        </p:blipFill>
        <p:spPr>
          <a:xfrm>
            <a:off x="-615960" y="2117880"/>
            <a:ext cx="6046920" cy="45352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1" descr=""/>
          <p:cNvPicPr/>
          <p:nvPr/>
        </p:nvPicPr>
        <p:blipFill>
          <a:blip r:embed="rId2"/>
          <a:stretch/>
        </p:blipFill>
        <p:spPr>
          <a:xfrm>
            <a:off x="5724360" y="157320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2" descr=""/>
          <p:cNvPicPr/>
          <p:nvPr/>
        </p:nvPicPr>
        <p:blipFill>
          <a:blip r:embed="rId3"/>
          <a:stretch/>
        </p:blipFill>
        <p:spPr>
          <a:xfrm>
            <a:off x="5595840" y="3724200"/>
            <a:ext cx="2657520" cy="120816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тветьте на вопрос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МОГУТ ЛИ РАЗНЫЕ ГРУППЫ РЕАЛИЗОВЫВАТЬ РАЗНЫЕ ПРОГРАММ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6568920" y="3271680"/>
            <a:ext cx="2413080" cy="3498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"/>
          <p:cNvPicPr/>
          <p:nvPr/>
        </p:nvPicPr>
        <p:blipFill>
          <a:blip r:embed="rId5"/>
          <a:stretch/>
        </p:blipFill>
        <p:spPr>
          <a:xfrm>
            <a:off x="5692680" y="1328760"/>
            <a:ext cx="2652840" cy="3537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6"/>
          <a:stretch/>
        </p:blipFill>
        <p:spPr>
          <a:xfrm>
            <a:off x="3716280" y="3429000"/>
            <a:ext cx="2640240" cy="3298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"/>
          <p:cNvPicPr/>
          <p:nvPr/>
        </p:nvPicPr>
        <p:blipFill>
          <a:blip r:embed="rId7"/>
          <a:stretch/>
        </p:blipFill>
        <p:spPr>
          <a:xfrm>
            <a:off x="3200400" y="1293840"/>
            <a:ext cx="2357280" cy="3643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"/>
          <p:cNvPicPr/>
          <p:nvPr/>
        </p:nvPicPr>
        <p:blipFill>
          <a:blip r:embed="rId8"/>
          <a:stretch/>
        </p:blipFill>
        <p:spPr>
          <a:xfrm>
            <a:off x="185760" y="1335240"/>
            <a:ext cx="2800440" cy="3686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"/>
          <p:cNvPicPr/>
          <p:nvPr/>
        </p:nvPicPr>
        <p:blipFill>
          <a:blip r:embed="rId9"/>
          <a:stretch/>
        </p:blipFill>
        <p:spPr>
          <a:xfrm>
            <a:off x="6423120" y="1631880"/>
            <a:ext cx="2714400" cy="3895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"/>
          <p:cNvPicPr/>
          <p:nvPr/>
        </p:nvPicPr>
        <p:blipFill>
          <a:blip r:embed="rId10"/>
          <a:srcRect l="14727" t="0" r="14727" b="0"/>
          <a:stretch/>
        </p:blipFill>
        <p:spPr>
          <a:xfrm>
            <a:off x="547560" y="2417760"/>
            <a:ext cx="3011760" cy="426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6000" y="115920"/>
            <a:ext cx="8712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КАКОЙ ОБРАЗОВАТЕЛЬНОЙ ОБЛАСТИ НЕТ В ФГОС ДО?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-146160" y="901800"/>
            <a:ext cx="9107640" cy="47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9:32:39Z</dcterms:created>
  <dc:creator>1</dc:creator>
  <dc:description/>
  <dc:language>en-US</dc:language>
  <cp:lastModifiedBy>User</cp:lastModifiedBy>
  <dcterms:modified xsi:type="dcterms:W3CDTF">2014-06-19T06:45:09Z</dcterms:modified>
  <cp:revision>128</cp:revision>
  <dc:subject/>
  <dc:title>Слайд 1</dc:title>
</cp:coreProperties>
</file>